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FAFF-892E-471F-A05A-FA21B1D7B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F8C0-2284-4659-9635-4CB7C028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2CCD-B174-42E2-B878-9CB08FBF8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56D7-B893-4858-B87B-E80C0577C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0F5F-3739-48B0-AB8A-38CE5053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CDC3-7159-4A62-BB65-494CF025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C9AC-D822-485E-8670-3826624E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7DE0-BBD8-49F9-96A2-5026AF78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5731-18F3-4469-BDD1-5FA68D2B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CA91-B9E2-4204-81EB-EDC187CF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DC40-D168-4408-BBCD-C09049B8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0F55-7E4F-4457-94B5-219B717E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E63F-C05F-4088-B05E-D70DB82BA2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cky Web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terview: Jenny 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Interview.mp3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3389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0:52:06Z</dcterms:created>
  <dc:creator>Rick W</dc:creator>
  <dc:description/>
  <dc:language>en-US</dc:language>
  <cp:lastModifiedBy>Rick W</cp:lastModifiedBy>
  <dcterms:modified xsi:type="dcterms:W3CDTF">2012-02-26T20:58:03Z</dcterms:modified>
  <cp:revision>1</cp:revision>
  <dc:subject/>
  <dc:title>Ricky Weber</dc:title>
</cp:coreProperties>
</file>